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20.jpeg" ContentType="image/jpeg"/>
  <Override PartName="/ppt/media/image11.wmf" ContentType="image/x-wmf"/>
  <Override PartName="/ppt/media/image6.wmf" ContentType="image/x-wmf"/>
  <Override PartName="/ppt/media/image19.jpeg" ContentType="image/jpeg"/>
  <Override PartName="/ppt/media/image10.wmf" ContentType="image/x-wmf"/>
  <Override PartName="/ppt/media/image22.wmf" ContentType="image/x-wmf"/>
  <Override PartName="/ppt/media/image5.wmf" ContentType="image/x-wmf"/>
  <Override PartName="/ppt/media/image21.wmf" ContentType="image/x-wmf"/>
  <Override PartName="/ppt/media/image4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3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8D10-200F-4B2A-B716-522EDBA06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F306-C88B-4F29-BFC4-F2E5F169C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FB47-DE62-4FE3-A4A3-BA76F2752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652F-6113-47C9-A2A6-82332BDAE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2DAC-E4C0-4D57-84F6-AF288F5CA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1210-140A-479D-9738-4698CA070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2C64-9D52-42DC-B163-FBFDB22DC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EF4B-52F5-495F-81E0-B34A4592A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25F9-4C2B-4FAF-A23B-BDC05DC77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D008-310D-4FCA-AED2-8F11E023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926D-9E35-4C88-8258-D162B7D0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AFA2-C9C1-470F-8F7C-5221140A6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42277-0CF8-48BC-890B-BB9704E7AAA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2987640" y="4581360"/>
            <a:ext cx="369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JUNIO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1403280" y="2924280"/>
            <a:ext cx="7543800" cy="119124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 Narrow"/>
              </a:rPr>
              <a:t>Consumo de drogas: Datos epidemiológicos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jnd (2)"/>
          <p:cNvPicPr/>
          <p:nvPr/>
        </p:nvPicPr>
        <p:blipFill>
          <a:blip r:embed="rId1"/>
          <a:stretch/>
        </p:blipFill>
        <p:spPr>
          <a:xfrm>
            <a:off x="2549520" y="0"/>
            <a:ext cx="4133880" cy="25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3"/>
          <p:cNvSpPr/>
          <p:nvPr/>
        </p:nvSpPr>
        <p:spPr>
          <a:xfrm>
            <a:off x="647640" y="766800"/>
            <a:ext cx="914400" cy="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45"/>
          <p:cNvGraphicFramePr/>
          <p:nvPr/>
        </p:nvGraphicFramePr>
        <p:xfrm>
          <a:off x="1562040" y="1413000"/>
          <a:ext cx="7236000" cy="428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" name="Object 4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2040" y="1413000"/>
                    <a:ext cx="7236000" cy="42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Rectangle 47"/>
          <p:cNvSpPr/>
          <p:nvPr/>
        </p:nvSpPr>
        <p:spPr>
          <a:xfrm>
            <a:off x="1908000" y="189000"/>
            <a:ext cx="5616720" cy="76356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 Narrow"/>
              </a:rPr>
              <a:t>Estudio sobre presencia de Drogas en Emergencias hospitalarias</a:t>
            </a:r>
            <a:r>
              <a:rPr b="1" lang="es-ES" sz="3000" spc="-1" strike="noStrike">
                <a:solidFill>
                  <a:srgbClr val="ffffff"/>
                </a:solidFill>
                <a:latin typeface="Arial Narrow"/>
              </a:rPr>
              <a:t>. </a:t>
            </a:r>
            <a:r>
              <a:rPr b="1" lang="es-ES" sz="2000" spc="-1" strike="noStrike">
                <a:solidFill>
                  <a:srgbClr val="ffffff"/>
                </a:solidFill>
                <a:latin typeface="Arial Narrow"/>
              </a:rPr>
              <a:t>Hospital Pasteur -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79640" y="274680"/>
            <a:ext cx="4968720" cy="41760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MARIHU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Object 3"/>
          <p:cNvGraphicFramePr/>
          <p:nvPr/>
        </p:nvGraphicFramePr>
        <p:xfrm>
          <a:off x="2340000" y="1571760"/>
          <a:ext cx="4092480" cy="2363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1571760"/>
                    <a:ext cx="4092480" cy="23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1440000" y="4562640"/>
          <a:ext cx="2663640" cy="1126800"/>
        </p:xfrm>
        <a:graphic>
          <a:graphicData uri="http://schemas.openxmlformats.org/drawingml/2006/table">
            <a:tbl>
              <a:tblPr/>
              <a:tblGrid>
                <a:gridCol w="1655640"/>
                <a:gridCol w="1008000"/>
              </a:tblGrid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valencias año en el Mun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ón (Argentina, Chil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UY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2 – 6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Text Box 4"/>
          <p:cNvSpPr/>
          <p:nvPr/>
        </p:nvSpPr>
        <p:spPr>
          <a:xfrm>
            <a:off x="1403280" y="90792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cc3300"/>
                </a:solidFill>
                <a:latin typeface="Arial Narrow"/>
              </a:rPr>
              <a:t>El 8,3% de la población representada  ha consumido Marihuana en los últimos 12 meses (128.000 persona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5938920" y="3935520"/>
            <a:ext cx="29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Evolución  del consu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Object 181"/>
          <p:cNvGraphicFramePr/>
          <p:nvPr/>
        </p:nvGraphicFramePr>
        <p:xfrm>
          <a:off x="4175280" y="4492800"/>
          <a:ext cx="4716360" cy="17794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4" name="Object 1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75280" y="4492800"/>
                    <a:ext cx="4716360" cy="17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4920" y="274680"/>
            <a:ext cx="5545080" cy="41760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MARIHU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5"/>
          <p:cNvSpPr/>
          <p:nvPr/>
        </p:nvSpPr>
        <p:spPr>
          <a:xfrm>
            <a:off x="1547640" y="986760"/>
            <a:ext cx="58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onsumo de marihuana. Prevalencia de vida según sexo y tramo de eda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3"/>
          <p:cNvSpPr/>
          <p:nvPr/>
        </p:nvSpPr>
        <p:spPr>
          <a:xfrm>
            <a:off x="6083280" y="4149720"/>
            <a:ext cx="2592360" cy="158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300" spc="-1" strike="noStrike">
                <a:solidFill>
                  <a:srgbClr val="000000"/>
                </a:solidFill>
                <a:latin typeface="Arial"/>
              </a:rPr>
              <a:t>Un 25,1% de los que probaron marihuana alguna vez en la vida tiene actualmente un patrón de consumo frecuente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300" spc="-1" strike="noStrike">
                <a:solidFill>
                  <a:srgbClr val="000000"/>
                </a:solidFill>
                <a:latin typeface="Arial"/>
              </a:rPr>
              <a:t>Otro 58,6%, no ha consumido en el último año. </a:t>
            </a:r>
            <a:r>
              <a:rPr b="1" lang="es-UY" sz="1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Object 50"/>
          <p:cNvGraphicFramePr/>
          <p:nvPr/>
        </p:nvGraphicFramePr>
        <p:xfrm>
          <a:off x="1619280" y="1400040"/>
          <a:ext cx="5761080" cy="2175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400040"/>
                    <a:ext cx="5761080" cy="217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Rectangle 53"/>
          <p:cNvSpPr/>
          <p:nvPr/>
        </p:nvSpPr>
        <p:spPr>
          <a:xfrm>
            <a:off x="2050920" y="4427640"/>
            <a:ext cx="2376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e cada 10 personas que probaron la sustancia, cuatro mantienen el consumo en el último añ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834920" y="274680"/>
            <a:ext cx="5545080" cy="41760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MARIHU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Object 3"/>
          <p:cNvGraphicFramePr/>
          <p:nvPr/>
        </p:nvGraphicFramePr>
        <p:xfrm>
          <a:off x="1260360" y="2317680"/>
          <a:ext cx="3814920" cy="2803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0360" y="2317680"/>
                    <a:ext cx="3814920" cy="28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Text Box 4"/>
          <p:cNvSpPr/>
          <p:nvPr/>
        </p:nvSpPr>
        <p:spPr>
          <a:xfrm>
            <a:off x="1332000" y="122868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El 16,6% de los consumidores del último año presentan signos de uso problemático (21.000 personas aproximadamente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5651640" y="3432240"/>
            <a:ext cx="316836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600" spc="-1" strike="noStrike">
                <a:solidFill>
                  <a:srgbClr val="000000"/>
                </a:solidFill>
                <a:latin typeface="Arial"/>
              </a:rPr>
              <a:t>A igual frecuencia de consumo, mayor uso problemático en las mujeres</a:t>
            </a: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5148360" y="353700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1835280" y="274680"/>
            <a:ext cx="5545080" cy="41760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COCAÍ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Object 8"/>
          <p:cNvGraphicFramePr/>
          <p:nvPr/>
        </p:nvGraphicFramePr>
        <p:xfrm>
          <a:off x="1476360" y="985680"/>
          <a:ext cx="4248000" cy="2443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985680"/>
                    <a:ext cx="4248000" cy="24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Text Box 9"/>
          <p:cNvSpPr/>
          <p:nvPr/>
        </p:nvSpPr>
        <p:spPr>
          <a:xfrm>
            <a:off x="5975280" y="1413000"/>
            <a:ext cx="2808360" cy="158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300" spc="-1" strike="noStrike">
                <a:solidFill>
                  <a:srgbClr val="000000"/>
                </a:solidFill>
                <a:latin typeface="Arial"/>
              </a:rPr>
              <a:t>Un 13,4% de los que probaron cocaína alguna vez en la vida tiene actualmente un patrón de consumo frecuente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300" spc="-1" strike="noStrike">
                <a:solidFill>
                  <a:srgbClr val="000000"/>
                </a:solidFill>
                <a:latin typeface="Arial"/>
              </a:rPr>
              <a:t>Otro 68,7% no ha consumido en el último año. </a:t>
            </a:r>
            <a:r>
              <a:rPr b="1" lang="es-UY" sz="1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Object 10"/>
          <p:cNvGraphicFramePr/>
          <p:nvPr/>
        </p:nvGraphicFramePr>
        <p:xfrm>
          <a:off x="4356000" y="3429000"/>
          <a:ext cx="4464000" cy="2079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2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3429000"/>
                    <a:ext cx="4464000" cy="20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Text Box 11"/>
          <p:cNvSpPr/>
          <p:nvPr/>
        </p:nvSpPr>
        <p:spPr>
          <a:xfrm>
            <a:off x="2627280" y="5734080"/>
            <a:ext cx="619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6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1" lang="es-UY" sz="1600" spc="-1" strike="noStrike">
                <a:solidFill>
                  <a:srgbClr val="666633"/>
                </a:solidFill>
                <a:latin typeface="Arial"/>
              </a:rPr>
              <a:t>SÓLO LA EXPERIMENTACIÓN TUVO UN CRECIMIENTO ESTADÍSTICAMENTE SIGNIFICATIVO ENTRE 2006 Y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332000" y="3965400"/>
          <a:ext cx="2808360" cy="1229040"/>
        </p:xfrm>
        <a:graphic>
          <a:graphicData uri="http://schemas.openxmlformats.org/drawingml/2006/table">
            <a:tbl>
              <a:tblPr/>
              <a:tblGrid>
                <a:gridCol w="1727280"/>
                <a:gridCol w="1081080"/>
              </a:tblGrid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valencias año en el Mun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ón (Argentina,Chi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-2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Oval 42"/>
          <p:cNvSpPr/>
          <p:nvPr/>
        </p:nvSpPr>
        <p:spPr>
          <a:xfrm>
            <a:off x="4356000" y="2060640"/>
            <a:ext cx="1152720" cy="1197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43"/>
          <p:cNvSpPr/>
          <p:nvPr/>
        </p:nvSpPr>
        <p:spPr>
          <a:xfrm>
            <a:off x="5110200" y="2766960"/>
            <a:ext cx="1728720" cy="242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1619280" y="274680"/>
            <a:ext cx="5545080" cy="41760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COCAÍ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2448000" y="2361960"/>
            <a:ext cx="572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9900"/>
                </a:solidFill>
                <a:latin typeface="Arial"/>
              </a:rPr>
              <a:t>El 34% de los que consumieron cocaína en el último año presenta signos de dependencia, lo que representa a 10.204 usuar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490920" y="4640400"/>
          <a:ext cx="3673440" cy="974520"/>
        </p:xfrm>
        <a:graphic>
          <a:graphicData uri="http://schemas.openxmlformats.org/drawingml/2006/table">
            <a:tbl>
              <a:tblPr/>
              <a:tblGrid>
                <a:gridCol w="3056040"/>
                <a:gridCol w="6174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Ocasional / experimen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2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Frecu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49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Text Box 47"/>
          <p:cNvSpPr/>
          <p:nvPr/>
        </p:nvSpPr>
        <p:spPr>
          <a:xfrm>
            <a:off x="2448000" y="3716280"/>
            <a:ext cx="5473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% de consumidores problemáticos según frecuencia de consumo</a:t>
            </a: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8"/>
          <p:cNvSpPr/>
          <p:nvPr/>
        </p:nvSpPr>
        <p:spPr>
          <a:xfrm>
            <a:off x="1476360" y="114876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consumo de cocaína se da mayormente en hombres, residentes en Montevideo y menores de 35 años de edad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5"/>
          <p:cNvSpPr/>
          <p:nvPr/>
        </p:nvSpPr>
        <p:spPr>
          <a:xfrm>
            <a:off x="1619280" y="65160"/>
            <a:ext cx="5545080" cy="41760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PASTA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Object 6"/>
          <p:cNvGraphicFramePr/>
          <p:nvPr/>
        </p:nvGraphicFramePr>
        <p:xfrm>
          <a:off x="1403280" y="1477800"/>
          <a:ext cx="3673440" cy="2233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477800"/>
                    <a:ext cx="3673440" cy="22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AutoShape 7"/>
          <p:cNvSpPr/>
          <p:nvPr/>
        </p:nvSpPr>
        <p:spPr>
          <a:xfrm>
            <a:off x="5292720" y="2133720"/>
            <a:ext cx="719280" cy="358560"/>
          </a:xfrm>
          <a:prstGeom prst="rightArrow">
            <a:avLst>
              <a:gd name="adj1" fmla="val 50000"/>
              <a:gd name="adj2" fmla="val 5015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8"/>
          <p:cNvSpPr/>
          <p:nvPr/>
        </p:nvSpPr>
        <p:spPr>
          <a:xfrm>
            <a:off x="5292720" y="2133720"/>
            <a:ext cx="503280" cy="358560"/>
          </a:xfrm>
          <a:prstGeom prst="rightArrow">
            <a:avLst>
              <a:gd name="adj1" fmla="val 50000"/>
              <a:gd name="adj2" fmla="val 35090"/>
            </a:avLst>
          </a:prstGeom>
          <a:solidFill>
            <a:srgbClr val="666633"/>
          </a:solidFill>
          <a:ln w="9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6012000" y="1773360"/>
            <a:ext cx="26654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Alta concentración geográfica y socioeconóm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0" descr="pasta base último-2"/>
          <p:cNvPicPr/>
          <p:nvPr/>
        </p:nvPicPr>
        <p:blipFill>
          <a:blip r:embed="rId3"/>
          <a:stretch/>
        </p:blipFill>
        <p:spPr>
          <a:xfrm>
            <a:off x="5076720" y="2843280"/>
            <a:ext cx="4067280" cy="331128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11"/>
          <p:cNvSpPr/>
          <p:nvPr/>
        </p:nvSpPr>
        <p:spPr>
          <a:xfrm>
            <a:off x="1187280" y="561960"/>
            <a:ext cx="765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El consumo de pasta base permanece estable en población general. No se presentan diferencias estadísticamente significativas respecto a la primera medición del año 200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3"/>
          <p:cNvSpPr/>
          <p:nvPr/>
        </p:nvSpPr>
        <p:spPr>
          <a:xfrm>
            <a:off x="1403280" y="3933720"/>
            <a:ext cx="3395880" cy="2374920"/>
          </a:xfrm>
          <a:prstGeom prst="rect">
            <a:avLst/>
          </a:prstGeom>
          <a:solidFill>
            <a:srgbClr val="808000"/>
          </a:solidFill>
          <a:ln w="9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ffffff"/>
                </a:solidFill>
                <a:latin typeface="Arial Narrow"/>
                <a:ea typeface="SimSun"/>
              </a:rPr>
              <a:t>El consumo de pasta base en la región(*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ffffff"/>
                </a:solidFill>
                <a:latin typeface="Arial Narrow"/>
                <a:ea typeface="SimSun"/>
              </a:rPr>
              <a:t>La prevalencia de vida del consumo de pasta base en las Américas –población general- oscila entre el 0,14% y el 3,10%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ffffff"/>
                </a:solidFill>
                <a:latin typeface="Arial Narrow"/>
                <a:ea typeface="SimSun"/>
              </a:rPr>
              <a:t>Uruguay presenta valores inferiores a Chile y similares a Colombia, Perú y Ecuador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ffffff"/>
                </a:solidFill>
                <a:latin typeface="Arial Narrow"/>
                <a:ea typeface="SimSun"/>
              </a:rPr>
              <a:t>(*) Fuente: Informe del Uso de Drogas en las Américas., 2011, OEA - CIC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1619280" y="65160"/>
            <a:ext cx="5545080" cy="41760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PASTA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4"/>
          <p:cNvSpPr/>
          <p:nvPr/>
        </p:nvSpPr>
        <p:spPr>
          <a:xfrm>
            <a:off x="5292720" y="2133720"/>
            <a:ext cx="719280" cy="358560"/>
          </a:xfrm>
          <a:prstGeom prst="rightArrow">
            <a:avLst>
              <a:gd name="adj1" fmla="val 50000"/>
              <a:gd name="adj2" fmla="val 5015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1908000" y="692280"/>
            <a:ext cx="576288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Perfil del consumid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2,0% hombres versus 0,4 muje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Mayoritariamente menores de 30 añ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18,9 años edad de inicio promed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Policonsumidor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0"/>
          <p:cNvSpPr/>
          <p:nvPr/>
        </p:nvSpPr>
        <p:spPr>
          <a:xfrm>
            <a:off x="6372360" y="1557360"/>
            <a:ext cx="79200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6633"/>
          </a:solidFill>
          <a:ln w="9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1"/>
          <p:cNvSpPr/>
          <p:nvPr/>
        </p:nvSpPr>
        <p:spPr>
          <a:xfrm>
            <a:off x="1619280" y="2492280"/>
            <a:ext cx="7273800" cy="580680"/>
          </a:xfrm>
          <a:prstGeom prst="rect">
            <a:avLst/>
          </a:prstGeom>
          <a:noFill/>
          <a:ln w="9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600" spc="-1" strike="noStrike">
                <a:solidFill>
                  <a:srgbClr val="000000"/>
                </a:solidFill>
                <a:latin typeface="Arial"/>
              </a:rPr>
              <a:t>LA MITAD DE LOS CONSUMIDORES DE LOS ÚLTIMOS 12 MESES PRESENTA USO PROBLEMÁTIC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6012000" y="3933720"/>
          <a:ext cx="2412720" cy="2438640"/>
        </p:xfrm>
        <a:graphic>
          <a:graphicData uri="http://schemas.openxmlformats.org/drawingml/2006/table">
            <a:tbl>
              <a:tblPr/>
              <a:tblGrid>
                <a:gridCol w="1693800"/>
                <a:gridCol w="71892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stanc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B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caí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coh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ihu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ras drog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Text Box 114"/>
          <p:cNvSpPr/>
          <p:nvPr/>
        </p:nvSpPr>
        <p:spPr>
          <a:xfrm>
            <a:off x="5506920" y="3314880"/>
            <a:ext cx="331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Censo nacional de usuarios de drogas en tratamiento – OUD-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19"/>
          <p:cNvSpPr/>
          <p:nvPr/>
        </p:nvSpPr>
        <p:spPr>
          <a:xfrm>
            <a:off x="1619280" y="4105440"/>
            <a:ext cx="3095640" cy="148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Un 19,3% de los que probaron pasta base alguna vez en la vida tiene actualmente un patrón de consumo frecuent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Otro 68,4% no ha consumido en el último año. </a:t>
            </a: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5"/>
          <p:cNvSpPr/>
          <p:nvPr/>
        </p:nvSpPr>
        <p:spPr>
          <a:xfrm>
            <a:off x="1619280" y="272880"/>
            <a:ext cx="5545080" cy="41760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OTRAS DRO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843280" y="1982880"/>
          <a:ext cx="3816360" cy="3962160"/>
        </p:xfrm>
        <a:graphic>
          <a:graphicData uri="http://schemas.openxmlformats.org/drawingml/2006/table">
            <a:tbl>
              <a:tblPr/>
              <a:tblGrid>
                <a:gridCol w="2004840"/>
                <a:gridCol w="18115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valencia vi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ash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ucinógne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halan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tas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fetamin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etam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roí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rfina (spm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nfetamin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tr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161" name="Text Box 142"/>
          <p:cNvSpPr/>
          <p:nvPr/>
        </p:nvSpPr>
        <p:spPr>
          <a:xfrm>
            <a:off x="1619280" y="105264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Consumo experimental de otras sustancias, fundamentalmente en usuarios policonsumidor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1619280" y="272880"/>
            <a:ext cx="5545080" cy="41760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800" spc="-1" strike="noStrike">
                <a:solidFill>
                  <a:srgbClr val="ffffff"/>
                </a:solidFill>
                <a:latin typeface="Arial Narrow"/>
              </a:rPr>
              <a:t>Drogas en el territo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9" descr="extasis último ahora si"/>
          <p:cNvPicPr/>
          <p:nvPr/>
        </p:nvPicPr>
        <p:blipFill>
          <a:blip r:embed="rId1"/>
          <a:stretch/>
        </p:blipFill>
        <p:spPr>
          <a:xfrm>
            <a:off x="4896000" y="1989000"/>
            <a:ext cx="4248000" cy="31165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50"/>
          <p:cNvSpPr/>
          <p:nvPr/>
        </p:nvSpPr>
        <p:spPr>
          <a:xfrm>
            <a:off x="1619280" y="981000"/>
            <a:ext cx="66247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Al igual que la PBC, el consumo de éxtasis presenta una importante segmentación territorial y socioeconómica, en este caso presentando mayores tasas de consumo en los segmentos mas alto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1" descr="pasta base último-2"/>
          <p:cNvPicPr/>
          <p:nvPr/>
        </p:nvPicPr>
        <p:blipFill>
          <a:blip r:embed="rId2"/>
          <a:stretch/>
        </p:blipFill>
        <p:spPr>
          <a:xfrm>
            <a:off x="1297080" y="1989000"/>
            <a:ext cx="40669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5"/>
          <p:cNvSpPr/>
          <p:nvPr/>
        </p:nvSpPr>
        <p:spPr>
          <a:xfrm>
            <a:off x="1763640" y="115920"/>
            <a:ext cx="5256360" cy="79848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 Narrow"/>
              </a:rPr>
              <a:t>Definición de principales indicador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1258920" y="1484280"/>
            <a:ext cx="7740720" cy="36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600" spc="-1" strike="noStrike">
                <a:solidFill>
                  <a:srgbClr val="3399ff"/>
                </a:solidFill>
                <a:latin typeface="Arial"/>
                <a:ea typeface="ＭＳ Ｐゴシック"/>
              </a:rPr>
              <a:t>PREVALENCIA DE VIDA</a:t>
            </a:r>
            <a:r>
              <a:rPr b="0" lang="es-UY" sz="1600" spc="-1" strike="noStrike">
                <a:solidFill>
                  <a:srgbClr val="3399ff"/>
                </a:solidFill>
                <a:latin typeface="Arial"/>
                <a:ea typeface="ＭＳ Ｐゴシック"/>
              </a:rPr>
              <a:t>:</a:t>
            </a:r>
            <a:r>
              <a:rPr b="0" lang="es-UY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¿Has consumido alguna vez en la vida  x sustanci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600" spc="-1" strike="noStrike">
                <a:solidFill>
                  <a:srgbClr val="3399ff"/>
                </a:solidFill>
                <a:latin typeface="Arial"/>
                <a:ea typeface="ＭＳ Ｐゴシック"/>
              </a:rPr>
              <a:t>PREVALENCIA ÚLTIMOS 12 MESES</a:t>
            </a:r>
            <a:r>
              <a:rPr b="0" lang="es-UY" sz="1600" spc="-1" strike="noStrike">
                <a:solidFill>
                  <a:srgbClr val="3399ff"/>
                </a:solidFill>
                <a:latin typeface="Arial"/>
                <a:ea typeface="ＭＳ Ｐゴシック"/>
              </a:rPr>
              <a:t>:</a:t>
            </a:r>
            <a:r>
              <a:rPr b="0" lang="es-UY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¿Has consumido en los últimos 12 meses x sustancia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600" spc="-1" strike="noStrike">
                <a:solidFill>
                  <a:srgbClr val="3399ff"/>
                </a:solidFill>
                <a:latin typeface="Arial"/>
                <a:ea typeface="ＭＳ Ｐゴシック"/>
              </a:rPr>
              <a:t>PREVALENCIA ÚLTIMOS 30 DÍAS</a:t>
            </a:r>
            <a:r>
              <a:rPr b="0" lang="es-UY" sz="1600" spc="-1" strike="noStrike">
                <a:solidFill>
                  <a:srgbClr val="3399ff"/>
                </a:solidFill>
                <a:latin typeface="Arial"/>
                <a:ea typeface="ＭＳ Ｐゴシック"/>
              </a:rPr>
              <a:t>:</a:t>
            </a:r>
            <a:r>
              <a:rPr b="0" lang="es-UY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¿ Has consumido en los últimos 30 días x sustanci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s-UY" sz="1600" spc="-1" strike="noStrike">
                <a:solidFill>
                  <a:srgbClr val="3399ff"/>
                </a:solidFill>
                <a:latin typeface="Arial"/>
                <a:ea typeface="ＭＳ Ｐゴシック"/>
              </a:rPr>
              <a:t>CONSUMO PROBLEMÁTICO:</a:t>
            </a:r>
            <a:r>
              <a:rPr b="0" lang="es-UY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Serie de Indicadores resumidos en un INDICE que mide los síntomas de dependencia (física o psicológica) o uso abusivo de la  persona a la sustancia indagada (CIE-10) para drogas ilegales, AUDIT para Alcohol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600" spc="-1" strike="noStrike">
                <a:solidFill>
                  <a:srgbClr val="3399ff"/>
                </a:solidFill>
                <a:latin typeface="Arial"/>
                <a:ea typeface="ＭＳ Ｐゴシック"/>
              </a:rPr>
              <a:t>ABUSO POR INGESTA (PARA ALCOHOL)</a:t>
            </a:r>
            <a:r>
              <a:rPr b="0" lang="es-UY" sz="1600" spc="-1" strike="noStrike">
                <a:solidFill>
                  <a:srgbClr val="3399ff"/>
                </a:solidFill>
                <a:latin typeface="Arial"/>
                <a:ea typeface="ＭＳ Ｐゴシック"/>
              </a:rPr>
              <a:t>:</a:t>
            </a:r>
            <a:r>
              <a:rPr b="0" lang="es-UY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onsumo en una sola ingesta superior a 4 tragos (equivalente a 80 o mas gramos de alcohol puro.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1619280" y="272880"/>
            <a:ext cx="5545080" cy="41760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 Narrow"/>
              </a:rPr>
              <a:t>SINTESIS: Consumo alguna vez en la v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2"/>
          <p:cNvSpPr/>
          <p:nvPr/>
        </p:nvSpPr>
        <p:spPr>
          <a:xfrm>
            <a:off x="1476360" y="1123920"/>
            <a:ext cx="7201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El 95,7% probó alguna vez en la vida alguna droga (legal y/o ileg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3"/>
          <p:cNvSpPr/>
          <p:nvPr/>
        </p:nvSpPr>
        <p:spPr>
          <a:xfrm>
            <a:off x="1619280" y="2442600"/>
            <a:ext cx="720072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a de cada cuatro personas de la población representada  probó alguna droga ilegal en su vida.  De éstos seis de cada diez (64,2%) son monoconsumidor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Object 54"/>
          <p:cNvGraphicFramePr/>
          <p:nvPr/>
        </p:nvGraphicFramePr>
        <p:xfrm>
          <a:off x="1835280" y="3594240"/>
          <a:ext cx="5545080" cy="254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0" name="Object 5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3594240"/>
                    <a:ext cx="5545080" cy="25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457200" y="1600200"/>
          <a:ext cx="4038480" cy="449280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4492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Rectangle 5"/>
          <p:cNvSpPr/>
          <p:nvPr/>
        </p:nvSpPr>
        <p:spPr>
          <a:xfrm>
            <a:off x="1619280" y="260280"/>
            <a:ext cx="6192720" cy="69228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Narrow"/>
              </a:rPr>
              <a:t>SINTESIS: Consumo de drogas en los últimos 12 meses (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8"/>
          <p:cNvSpPr/>
          <p:nvPr/>
        </p:nvSpPr>
        <p:spPr>
          <a:xfrm>
            <a:off x="2806560" y="1197000"/>
            <a:ext cx="63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drogas más consumidas en la población de 15 y 64 años son el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lcohol y el tabac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eguidas de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tranquilizantes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arihuan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Object 29"/>
          <p:cNvGraphicFramePr/>
          <p:nvPr/>
        </p:nvGraphicFramePr>
        <p:xfrm>
          <a:off x="1187280" y="2349360"/>
          <a:ext cx="6913800" cy="4192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5" name="Object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349360"/>
                    <a:ext cx="6913800" cy="419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5"/>
          <p:cNvSpPr/>
          <p:nvPr/>
        </p:nvSpPr>
        <p:spPr>
          <a:xfrm>
            <a:off x="1332000" y="115920"/>
            <a:ext cx="5616360" cy="72072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Narrow"/>
              </a:rPr>
              <a:t>informe completo en 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Arial Narrow"/>
              </a:rPr>
              <a:t>www.infodrogas.gub.u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9" descr="tapa_v_encuesta (2)"/>
          <p:cNvPicPr/>
          <p:nvPr/>
        </p:nvPicPr>
        <p:blipFill>
          <a:blip r:embed="rId1"/>
          <a:stretch/>
        </p:blipFill>
        <p:spPr>
          <a:xfrm>
            <a:off x="2340000" y="836640"/>
            <a:ext cx="405432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5"/>
          <p:cNvSpPr/>
          <p:nvPr/>
        </p:nvSpPr>
        <p:spPr>
          <a:xfrm>
            <a:off x="1979640" y="260280"/>
            <a:ext cx="4897440" cy="47628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 Narrow"/>
              </a:rPr>
              <a:t>ALCOH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Object 22"/>
          <p:cNvGraphicFramePr/>
          <p:nvPr/>
        </p:nvGraphicFramePr>
        <p:xfrm>
          <a:off x="1547640" y="4221000"/>
          <a:ext cx="4608720" cy="241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4221000"/>
                    <a:ext cx="4608720" cy="24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Object 24"/>
          <p:cNvGraphicFramePr/>
          <p:nvPr/>
        </p:nvGraphicFramePr>
        <p:xfrm>
          <a:off x="3635280" y="765000"/>
          <a:ext cx="4824360" cy="29480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0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35280" y="765000"/>
                    <a:ext cx="4824360" cy="29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Text Box 25"/>
          <p:cNvSpPr/>
          <p:nvPr/>
        </p:nvSpPr>
        <p:spPr>
          <a:xfrm>
            <a:off x="7164360" y="3933720"/>
            <a:ext cx="19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6"/>
          <p:cNvSpPr/>
          <p:nvPr/>
        </p:nvSpPr>
        <p:spPr>
          <a:xfrm>
            <a:off x="7164360" y="4221000"/>
            <a:ext cx="1763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600" spc="-1" strike="noStrike">
                <a:solidFill>
                  <a:srgbClr val="000000"/>
                </a:solidFill>
                <a:latin typeface="Arial"/>
              </a:rPr>
              <a:t>Se presenta un aumento significativo del consumo de alcohol respecto al 2006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7"/>
          <p:cNvSpPr/>
          <p:nvPr/>
        </p:nvSpPr>
        <p:spPr>
          <a:xfrm>
            <a:off x="1332000" y="1125360"/>
            <a:ext cx="2303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Los hombres consumen en mayor medida que las mujeres, excepto en los menores de 18 años donde el consumo se equipara entre los sex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7"/>
          <p:cNvSpPr/>
          <p:nvPr/>
        </p:nvSpPr>
        <p:spPr>
          <a:xfrm>
            <a:off x="0" y="21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Object 14"/>
          <p:cNvGraphicFramePr/>
          <p:nvPr/>
        </p:nvGraphicFramePr>
        <p:xfrm>
          <a:off x="2197080" y="1028880"/>
          <a:ext cx="6769080" cy="265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7080" y="1028880"/>
                    <a:ext cx="6769080" cy="26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Rectangle 16"/>
          <p:cNvSpPr/>
          <p:nvPr/>
        </p:nvSpPr>
        <p:spPr>
          <a:xfrm>
            <a:off x="1749600" y="237960"/>
            <a:ext cx="4910040" cy="47628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 Narrow"/>
              </a:rPr>
              <a:t>ALCOH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7"/>
          <p:cNvSpPr/>
          <p:nvPr/>
        </p:nvSpPr>
        <p:spPr>
          <a:xfrm>
            <a:off x="1476360" y="450792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edad promedio de inicio del consumo de alcohol es 16,6 añ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1476360" y="4724280"/>
            <a:ext cx="7272360" cy="24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BLEMA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ores probabilidades de uso problemático y dependencia al alcohol</a:t>
            </a:r>
            <a:r>
              <a:rPr b="0" lang="es-UY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;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s-UY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rant y Dawson (1997) aseguran que cerca del 40% de los que reportaron haber comenzado a beber antes de los 15 años describieron que en algún momento de sus vida llegaron a tener dependencia al alcohol, lo cual es una cifra cuatro veces superior a la reportada por quienes empezaron a beber a  los 21 años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19"/>
          <p:cNvSpPr/>
          <p:nvPr/>
        </p:nvSpPr>
        <p:spPr>
          <a:xfrm>
            <a:off x="3203640" y="2374920"/>
            <a:ext cx="792000" cy="136692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0"/>
          <p:cNvSpPr/>
          <p:nvPr/>
        </p:nvSpPr>
        <p:spPr>
          <a:xfrm>
            <a:off x="1187280" y="1268280"/>
            <a:ext cx="1513080" cy="14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La edad promedio  de inicio en estos jóvenes es de 13,82.</a:t>
            </a:r>
            <a:r>
              <a:rPr b="0" lang="es-UY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4"/>
          <p:cNvSpPr/>
          <p:nvPr/>
        </p:nvSpPr>
        <p:spPr>
          <a:xfrm flipH="1" flipV="1">
            <a:off x="2700360" y="2176200"/>
            <a:ext cx="719280" cy="49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8"/>
          <p:cNvSpPr/>
          <p:nvPr/>
        </p:nvSpPr>
        <p:spPr>
          <a:xfrm>
            <a:off x="1835280" y="237960"/>
            <a:ext cx="4537080" cy="47628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 Narrow"/>
              </a:rPr>
              <a:t>ALCOH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1403280" y="4149720"/>
            <a:ext cx="7740720" cy="18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3399ff"/>
                </a:solidFill>
                <a:latin typeface="Arial"/>
              </a:rPr>
              <a:t>Riesgo I</a:t>
            </a: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Uso problemático por episodios puntuales de abuso por ingesta sobre el nivel de intoxicació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3399ff"/>
                </a:solidFill>
                <a:latin typeface="Arial"/>
              </a:rPr>
              <a:t>Riesgo II</a:t>
            </a: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Uso problemático por ingestas habituales y/o puntuales igual o superior a cinco tragos; no presentando resultado positivo en la escala AUDI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3399ff"/>
                </a:solidFill>
                <a:latin typeface="Arial"/>
              </a:rPr>
              <a:t>Riesgo III</a:t>
            </a: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Uso problemático identificado por valores positivos en la escala AUDIT  y donde en la mayoría de los casos además se presentan ingestas puntuales y habituales sobre el nivel de intoxicación</a:t>
            </a: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1582560" y="1698480"/>
            <a:ext cx="2305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000000"/>
                </a:solidFill>
                <a:latin typeface="Arial"/>
              </a:rPr>
              <a:t>260.000 </a:t>
            </a: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personas entre 15 y 64 años presentan uso problemático de alcoho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7"/>
          <p:cNvSpPr/>
          <p:nvPr/>
        </p:nvSpPr>
        <p:spPr>
          <a:xfrm>
            <a:off x="0" y="22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16"/>
          <p:cNvGraphicFramePr/>
          <p:nvPr/>
        </p:nvGraphicFramePr>
        <p:xfrm>
          <a:off x="3887640" y="833400"/>
          <a:ext cx="4969080" cy="3316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7640" y="833400"/>
                    <a:ext cx="4969080" cy="331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5"/>
          <p:cNvSpPr/>
          <p:nvPr/>
        </p:nvSpPr>
        <p:spPr>
          <a:xfrm>
            <a:off x="0" y="22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Object 2"/>
          <p:cNvGraphicFramePr/>
          <p:nvPr/>
        </p:nvGraphicFramePr>
        <p:xfrm>
          <a:off x="1187280" y="2133720"/>
          <a:ext cx="6858000" cy="265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133720"/>
                    <a:ext cx="6858000" cy="26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Rectangle 11"/>
          <p:cNvSpPr/>
          <p:nvPr/>
        </p:nvSpPr>
        <p:spPr>
          <a:xfrm>
            <a:off x="984240" y="1268280"/>
            <a:ext cx="6629400" cy="11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ahoma"/>
                <a:ea typeface="ＭＳ Ｐゴシック"/>
              </a:rPr>
              <a:t>Incidencia del alcohol por tipo de accidente (leves, graves y fata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6600ff"/>
                </a:solidFill>
                <a:latin typeface="Tahoma"/>
                <a:ea typeface="ＭＳ Ｐゴシック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3"/>
          <p:cNvSpPr/>
          <p:nvPr/>
        </p:nvSpPr>
        <p:spPr>
          <a:xfrm>
            <a:off x="900000" y="5084640"/>
            <a:ext cx="7489800" cy="4411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92280" indent="-34776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  <a:ea typeface="Arial"/>
              </a:rPr>
              <a:t>Se puede señalar que en un 16 % de los siniestros de tránsito se detectó presencia de alcohol en alguno de sus protagonistas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  <a:ea typeface="Arial"/>
              </a:rPr>
              <a:t>Entre los accidentes fatales ocurre un salto en la incidencia del alcohol , llegando a un  porcentaje cercano al 40%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1"/>
          <p:cNvSpPr/>
          <p:nvPr/>
        </p:nvSpPr>
        <p:spPr>
          <a:xfrm>
            <a:off x="1476360" y="237960"/>
            <a:ext cx="6137280" cy="88740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Narrow"/>
              </a:rPr>
              <a:t>INCIDENCIA DEL ALCOHOL EN LOS SINIESTROS DE TRÁNSITO</a:t>
            </a:r>
            <a:r>
              <a:rPr b="1" lang="es-ES" sz="30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5"/>
          <p:cNvSpPr/>
          <p:nvPr/>
        </p:nvSpPr>
        <p:spPr>
          <a:xfrm>
            <a:off x="2124000" y="237960"/>
            <a:ext cx="4464000" cy="47628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 Narrow"/>
              </a:rPr>
              <a:t>TABA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Object 9"/>
          <p:cNvGraphicFramePr/>
          <p:nvPr/>
        </p:nvGraphicFramePr>
        <p:xfrm>
          <a:off x="1403280" y="3789360"/>
          <a:ext cx="5184720" cy="2228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89360"/>
                    <a:ext cx="5184720" cy="22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Object 13"/>
          <p:cNvGraphicFramePr/>
          <p:nvPr/>
        </p:nvGraphicFramePr>
        <p:xfrm>
          <a:off x="2806560" y="714240"/>
          <a:ext cx="6337440" cy="2889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9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06560" y="714240"/>
                    <a:ext cx="6337440" cy="28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Text Box 15"/>
          <p:cNvSpPr/>
          <p:nvPr/>
        </p:nvSpPr>
        <p:spPr>
          <a:xfrm>
            <a:off x="6877080" y="3905280"/>
            <a:ext cx="2087640" cy="25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El descenso en el consumo habitual es estadísticamente significativo, lo que se explica por el descenso del consumo de los hombr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El rango de edad que muestra mayor cesación tabáquica es el de 36 a 45 añ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6"/>
          <p:cNvSpPr/>
          <p:nvPr/>
        </p:nvSpPr>
        <p:spPr>
          <a:xfrm>
            <a:off x="1403280" y="1197000"/>
            <a:ext cx="1873440" cy="15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3399ff"/>
                </a:solidFill>
                <a:latin typeface="Arial"/>
              </a:rPr>
              <a:t>Incidencia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Casi el 60% son mujer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Rango de edad predominante: 15 a 25 añ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908000" y="237960"/>
            <a:ext cx="5040360" cy="47628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 Narrow"/>
              </a:rPr>
              <a:t>Uso de medicament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1547640" y="1015200"/>
            <a:ext cx="70930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tranquilizantes son la tercera droga mas consumida, con una prevalencia de vida del 16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8"/>
          <p:cNvSpPr/>
          <p:nvPr/>
        </p:nvSpPr>
        <p:spPr>
          <a:xfrm>
            <a:off x="4179960" y="2462040"/>
            <a:ext cx="617400" cy="343080"/>
          </a:xfrm>
          <a:prstGeom prst="rightArrow">
            <a:avLst>
              <a:gd name="adj1" fmla="val 50000"/>
              <a:gd name="adj2" fmla="val 44990"/>
            </a:avLst>
          </a:prstGeom>
          <a:solidFill>
            <a:srgbClr val="666633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5219640" y="2278080"/>
            <a:ext cx="2282760" cy="9144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Le fueron recetados             85,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or su cuenta                       12,4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imero recetados 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luego por su cuenta               1,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6372360" y="3357720"/>
            <a:ext cx="388800" cy="457200"/>
          </a:xfrm>
          <a:prstGeom prst="downArrow">
            <a:avLst>
              <a:gd name="adj1" fmla="val 50000"/>
              <a:gd name="adj2" fmla="val 29398"/>
            </a:avLst>
          </a:prstGeom>
          <a:solidFill>
            <a:srgbClr val="666633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1657440" y="1775520"/>
            <a:ext cx="5848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valencia de vida tranquilizantes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. Prevalencia de vida tranquiliza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gún prescripción méd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647640" y="766800"/>
            <a:ext cx="914400" cy="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660680" y="2093760"/>
          <a:ext cx="1925640" cy="1098720"/>
        </p:xfrm>
        <a:graphic>
          <a:graphicData uri="http://schemas.openxmlformats.org/drawingml/2006/table">
            <a:tbl>
              <a:tblPr/>
              <a:tblGrid>
                <a:gridCol w="1011240"/>
                <a:gridCol w="9144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90" name="Rectangle 61"/>
          <p:cNvSpPr/>
          <p:nvPr/>
        </p:nvSpPr>
        <p:spPr>
          <a:xfrm>
            <a:off x="1766880" y="3252600"/>
            <a:ext cx="18842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Base: Total de la muestr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2"/>
          <p:cNvSpPr/>
          <p:nvPr/>
        </p:nvSpPr>
        <p:spPr>
          <a:xfrm>
            <a:off x="5219640" y="3238200"/>
            <a:ext cx="3841920" cy="11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  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ofesional que indicó los tranquiliza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5767560" y="4214880"/>
          <a:ext cx="2743200" cy="1616040"/>
        </p:xfrm>
        <a:graphic>
          <a:graphicData uri="http://schemas.openxmlformats.org/drawingml/2006/table">
            <a:tbl>
              <a:tblPr/>
              <a:tblGrid>
                <a:gridCol w="1833480"/>
                <a:gridCol w="909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edicina Gener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2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édico psiquiat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Otras especialida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93" name="Rectangle 116"/>
          <p:cNvSpPr/>
          <p:nvPr/>
        </p:nvSpPr>
        <p:spPr>
          <a:xfrm>
            <a:off x="5730120" y="5968440"/>
            <a:ext cx="284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Base: consumidores de tranquilizantes bajo prescripción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19"/>
          <p:cNvSpPr/>
          <p:nvPr/>
        </p:nvSpPr>
        <p:spPr>
          <a:xfrm>
            <a:off x="1036800" y="3570120"/>
            <a:ext cx="473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nsumo de tranquilizantes (con y sin prescripción médica) según sexo y edad.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Object 120"/>
          <p:cNvGraphicFramePr/>
          <p:nvPr/>
        </p:nvGraphicFramePr>
        <p:xfrm>
          <a:off x="1209600" y="4398840"/>
          <a:ext cx="4557960" cy="1814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" name="Object 1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9600" y="4398840"/>
                    <a:ext cx="4557960" cy="18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908000" y="237960"/>
            <a:ext cx="5040360" cy="47628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 Narrow"/>
              </a:rPr>
              <a:t>Uso de medicament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647640" y="766800"/>
            <a:ext cx="914400" cy="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2"/>
          <p:cNvSpPr/>
          <p:nvPr/>
        </p:nvSpPr>
        <p:spPr>
          <a:xfrm>
            <a:off x="1562040" y="1303920"/>
            <a:ext cx="711540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l 4,6% de la población declara que ha consumido hipnóticos (con y sin prescripción) alguna</a:t>
            </a:r>
            <a:r>
              <a:rPr b="1" lang="es-ES" sz="1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vez en su vida; en tanto un 6,6% consumió antidepresivos (101.000 personas) y el 0,7% estimulant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67"/>
          <p:cNvSpPr/>
          <p:nvPr/>
        </p:nvSpPr>
        <p:spPr>
          <a:xfrm>
            <a:off x="1908000" y="2772720"/>
            <a:ext cx="555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Prevalencia de vida (con y sin prescripción médica) según sexo y eda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68"/>
          <p:cNvSpPr/>
          <p:nvPr/>
        </p:nvSpPr>
        <p:spPr>
          <a:xfrm>
            <a:off x="1748880" y="49946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Base: Total de la muestra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692360" y="3141720"/>
          <a:ext cx="6769080" cy="1652400"/>
        </p:xfrm>
        <a:graphic>
          <a:graphicData uri="http://schemas.openxmlformats.org/drawingml/2006/table">
            <a:tbl>
              <a:tblPr/>
              <a:tblGrid>
                <a:gridCol w="1727280"/>
                <a:gridCol w="1441440"/>
                <a:gridCol w="1150920"/>
                <a:gridCol w="1449360"/>
                <a:gridCol w="100008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H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uj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≤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5 añ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&gt;35 añ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Hipnótic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ntidepresiv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Estimulan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7T13:39:31Z</dcterms:created>
  <dc:creator>jessi ramirez</dc:creator>
  <dc:description/>
  <dc:language>en-US</dc:language>
  <cp:lastModifiedBy>Amira</cp:lastModifiedBy>
  <dcterms:modified xsi:type="dcterms:W3CDTF">2014-01-11T13:10:00Z</dcterms:modified>
  <cp:revision>66</cp:revision>
  <dc:subject/>
  <dc:title>V Encuesta Nacional de Consumo  de Drogas en  Hogares    2011</dc:title>
</cp:coreProperties>
</file>