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19.jpeg" ContentType="image/jpeg"/>
  <Override PartName="/ppt/media/image10.wmf" ContentType="image/x-wmf"/>
  <Override PartName="/ppt/media/image22.wmf" ContentType="image/x-wmf"/>
  <Override PartName="/ppt/media/image5.wmf" ContentType="image/x-wmf"/>
  <Override PartName="/ppt/media/image21.wmf" ContentType="image/x-wmf"/>
  <Override PartName="/ppt/media/image4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3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AFCA-2FAA-4868-B520-EE6C9EC89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CD81-F623-4F1C-9E05-DB73F2ED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B532-8C72-4FDB-84D7-DE79DFBE1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1545-AA88-419A-B911-038E45F9A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C71A-5FB5-456B-888B-1A6620D4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7FA4-EE25-46C6-9C24-65B78469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8DF6-F975-4F8C-BA51-16218F6F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B483-D334-4BB8-888D-321C3328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C139-1958-44AC-B907-C8871600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D9B9-1EB9-4D0F-A499-2F11F649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C117-CFC3-4E15-A43C-8ED2B9B3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29C0-DF60-4658-A391-C79FB298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9B95-251B-48F6-AD6B-55CDD5FBF09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2987640" y="4581360"/>
            <a:ext cx="36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JUNIO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1403280" y="2924280"/>
            <a:ext cx="7543800" cy="119124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 Narrow"/>
              </a:rPr>
              <a:t>Consumo de drogas: Datos epidemiológicos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jnd (2)"/>
          <p:cNvPicPr/>
          <p:nvPr/>
        </p:nvPicPr>
        <p:blipFill>
          <a:blip r:embed="rId1"/>
          <a:stretch/>
        </p:blipFill>
        <p:spPr>
          <a:xfrm>
            <a:off x="2549520" y="0"/>
            <a:ext cx="413388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647640" y="766800"/>
            <a:ext cx="91440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45"/>
          <p:cNvGraphicFramePr/>
          <p:nvPr/>
        </p:nvGraphicFramePr>
        <p:xfrm>
          <a:off x="1562040" y="1413000"/>
          <a:ext cx="723600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Object 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1413000"/>
                    <a:ext cx="723600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47"/>
          <p:cNvSpPr/>
          <p:nvPr/>
        </p:nvSpPr>
        <p:spPr>
          <a:xfrm>
            <a:off x="1908000" y="189000"/>
            <a:ext cx="5616720" cy="76356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 Narrow"/>
              </a:rPr>
              <a:t>Estudio sobre presencia de Drogas en Emergencias hospitalarias</a:t>
            </a: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. </a:t>
            </a:r>
            <a:r>
              <a:rPr b="1" lang="es-ES" sz="2000" spc="-1" strike="noStrike">
                <a:solidFill>
                  <a:srgbClr val="ffffff"/>
                </a:solidFill>
                <a:latin typeface="Arial Narrow"/>
              </a:rPr>
              <a:t>Hospital Pasteur -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79640" y="274680"/>
            <a:ext cx="496872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MARIHU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3"/>
          <p:cNvGraphicFramePr/>
          <p:nvPr/>
        </p:nvGraphicFramePr>
        <p:xfrm>
          <a:off x="2340000" y="1571760"/>
          <a:ext cx="4092480" cy="236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571760"/>
                    <a:ext cx="4092480" cy="23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1440000" y="4562640"/>
          <a:ext cx="2663640" cy="1126800"/>
        </p:xfrm>
        <a:graphic>
          <a:graphicData uri="http://schemas.openxmlformats.org/drawingml/2006/table">
            <a:tbl>
              <a:tblPr/>
              <a:tblGrid>
                <a:gridCol w="1655640"/>
                <a:gridCol w="100800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alencias año en el Mun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ón (Argentina, Chil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2 – 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4"/>
          <p:cNvSpPr/>
          <p:nvPr/>
        </p:nvSpPr>
        <p:spPr>
          <a:xfrm>
            <a:off x="1403280" y="90792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cc3300"/>
                </a:solidFill>
                <a:latin typeface="Arial Narrow"/>
              </a:rPr>
              <a:t>El 8,3% de la población representada  ha consumido Marihuana en los últimos 12 meses (128.000 persona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938920" y="393552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Evolución  del consu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181"/>
          <p:cNvGraphicFramePr/>
          <p:nvPr/>
        </p:nvGraphicFramePr>
        <p:xfrm>
          <a:off x="4175280" y="4492800"/>
          <a:ext cx="4716360" cy="1779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4" name="Object 1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75280" y="4492800"/>
                    <a:ext cx="4716360" cy="17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7468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MARIHU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5"/>
          <p:cNvSpPr/>
          <p:nvPr/>
        </p:nvSpPr>
        <p:spPr>
          <a:xfrm>
            <a:off x="1547640" y="986760"/>
            <a:ext cx="58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nsumo de marihuana. Prevalencia de vida según sexo y tramo de eda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3"/>
          <p:cNvSpPr/>
          <p:nvPr/>
        </p:nvSpPr>
        <p:spPr>
          <a:xfrm>
            <a:off x="6083280" y="4149720"/>
            <a:ext cx="2592360" cy="158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300" spc="-1" strike="noStrike">
                <a:solidFill>
                  <a:srgbClr val="000000"/>
                </a:solidFill>
                <a:latin typeface="Arial"/>
              </a:rPr>
              <a:t>Un 25,1% de los que probaron marihuana alguna vez en la vida tiene actualmente un patrón de consumo frecuente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300" spc="-1" strike="noStrike">
                <a:solidFill>
                  <a:srgbClr val="000000"/>
                </a:solidFill>
                <a:latin typeface="Arial"/>
              </a:rPr>
              <a:t>Otro 58,6%, no ha consumido en el último año. </a:t>
            </a:r>
            <a:r>
              <a:rPr b="1" lang="es-UY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50"/>
          <p:cNvGraphicFramePr/>
          <p:nvPr/>
        </p:nvGraphicFramePr>
        <p:xfrm>
          <a:off x="1619280" y="1400040"/>
          <a:ext cx="5761080" cy="217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400040"/>
                    <a:ext cx="5761080" cy="21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53"/>
          <p:cNvSpPr/>
          <p:nvPr/>
        </p:nvSpPr>
        <p:spPr>
          <a:xfrm>
            <a:off x="2050920" y="4427640"/>
            <a:ext cx="237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 cada 10 personas que probaron la sustancia, cuatro mantienen el consumo en el último añ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34920" y="27468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MARIHU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3"/>
          <p:cNvGraphicFramePr/>
          <p:nvPr/>
        </p:nvGraphicFramePr>
        <p:xfrm>
          <a:off x="1260360" y="2317680"/>
          <a:ext cx="3814920" cy="280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360" y="2317680"/>
                    <a:ext cx="3814920" cy="28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ext Box 4"/>
          <p:cNvSpPr/>
          <p:nvPr/>
        </p:nvSpPr>
        <p:spPr>
          <a:xfrm>
            <a:off x="1332000" y="12286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El 16,6% de los consumidores del último año presentan signos de uso problemático (21.000 personas aproximadamente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5651640" y="3432240"/>
            <a:ext cx="31683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000000"/>
                </a:solidFill>
                <a:latin typeface="Arial"/>
              </a:rPr>
              <a:t>A igual frecuencia de consumo, mayor uso problemático en las mujeres</a:t>
            </a: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5148360" y="353700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1835280" y="27468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COCAÍ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8"/>
          <p:cNvGraphicFramePr/>
          <p:nvPr/>
        </p:nvGraphicFramePr>
        <p:xfrm>
          <a:off x="1476360" y="985680"/>
          <a:ext cx="4248000" cy="2443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985680"/>
                    <a:ext cx="4248000" cy="24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Text Box 9"/>
          <p:cNvSpPr/>
          <p:nvPr/>
        </p:nvSpPr>
        <p:spPr>
          <a:xfrm>
            <a:off x="5975280" y="1413000"/>
            <a:ext cx="2808360" cy="158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300" spc="-1" strike="noStrike">
                <a:solidFill>
                  <a:srgbClr val="000000"/>
                </a:solidFill>
                <a:latin typeface="Arial"/>
              </a:rPr>
              <a:t>Un 13,4% de los que probaron cocaína alguna vez en la vida tiene actualmente un patrón de consumo frecuente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300" spc="-1" strike="noStrike">
                <a:solidFill>
                  <a:srgbClr val="000000"/>
                </a:solidFill>
                <a:latin typeface="Arial"/>
              </a:rPr>
              <a:t>Otro 68,7% no ha consumido en el último año. </a:t>
            </a:r>
            <a:r>
              <a:rPr b="1" lang="es-UY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10"/>
          <p:cNvGraphicFramePr/>
          <p:nvPr/>
        </p:nvGraphicFramePr>
        <p:xfrm>
          <a:off x="4356000" y="3429000"/>
          <a:ext cx="4464000" cy="2079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2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3429000"/>
                    <a:ext cx="4464000" cy="20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 Box 11"/>
          <p:cNvSpPr/>
          <p:nvPr/>
        </p:nvSpPr>
        <p:spPr>
          <a:xfrm>
            <a:off x="2627280" y="5734080"/>
            <a:ext cx="619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1" lang="es-UY" sz="1600" spc="-1" strike="noStrike">
                <a:solidFill>
                  <a:srgbClr val="666633"/>
                </a:solidFill>
                <a:latin typeface="Arial"/>
              </a:rPr>
              <a:t>SÓLO LA EXPERIMENTACIÓN TUVO UN CRECIMIENTO ESTADÍSTICAMENTE SIGNIFICATIVO ENTRE 2006 Y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332000" y="3965400"/>
          <a:ext cx="2808360" cy="1229040"/>
        </p:xfrm>
        <a:graphic>
          <a:graphicData uri="http://schemas.openxmlformats.org/drawingml/2006/table">
            <a:tbl>
              <a:tblPr/>
              <a:tblGrid>
                <a:gridCol w="1727280"/>
                <a:gridCol w="108108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alencias año en el Mun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ón (Argentina,Chi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-2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Oval 42"/>
          <p:cNvSpPr/>
          <p:nvPr/>
        </p:nvSpPr>
        <p:spPr>
          <a:xfrm>
            <a:off x="4356000" y="2060640"/>
            <a:ext cx="1152720" cy="1197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3"/>
          <p:cNvSpPr/>
          <p:nvPr/>
        </p:nvSpPr>
        <p:spPr>
          <a:xfrm>
            <a:off x="5110200" y="2766960"/>
            <a:ext cx="1728720" cy="24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1619280" y="27468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COCAÍ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2448000" y="2361960"/>
            <a:ext cx="572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00"/>
                </a:solidFill>
                <a:latin typeface="Arial"/>
              </a:rPr>
              <a:t>El 34% de los que consumieron cocaína en el último año presenta signos de dependencia, lo que representa a 10.204 usuar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490920" y="4640400"/>
          <a:ext cx="3673440" cy="974520"/>
        </p:xfrm>
        <a:graphic>
          <a:graphicData uri="http://schemas.openxmlformats.org/drawingml/2006/table">
            <a:tbl>
              <a:tblPr/>
              <a:tblGrid>
                <a:gridCol w="3056040"/>
                <a:gridCol w="617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Ocasional / experimen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Frecu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9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Text Box 47"/>
          <p:cNvSpPr/>
          <p:nvPr/>
        </p:nvSpPr>
        <p:spPr>
          <a:xfrm>
            <a:off x="2448000" y="3716280"/>
            <a:ext cx="547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% de consumidores problemáticos según frecuencia de consumo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8"/>
          <p:cNvSpPr/>
          <p:nvPr/>
        </p:nvSpPr>
        <p:spPr>
          <a:xfrm>
            <a:off x="1476360" y="114876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consumo de cocaína se da mayormente en hombres, residentes en Montevideo y menores de 35 años de e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1619280" y="6516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PASTA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6"/>
          <p:cNvGraphicFramePr/>
          <p:nvPr/>
        </p:nvGraphicFramePr>
        <p:xfrm>
          <a:off x="1403280" y="1477800"/>
          <a:ext cx="3673440" cy="223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477800"/>
                    <a:ext cx="3673440" cy="22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AutoShape 7"/>
          <p:cNvSpPr/>
          <p:nvPr/>
        </p:nvSpPr>
        <p:spPr>
          <a:xfrm>
            <a:off x="5292720" y="2133720"/>
            <a:ext cx="719280" cy="358560"/>
          </a:xfrm>
          <a:prstGeom prst="rightArrow">
            <a:avLst>
              <a:gd name="adj1" fmla="val 50000"/>
              <a:gd name="adj2" fmla="val 5015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5292720" y="2133720"/>
            <a:ext cx="503280" cy="358560"/>
          </a:xfrm>
          <a:prstGeom prst="rightArrow">
            <a:avLst>
              <a:gd name="adj1" fmla="val 50000"/>
              <a:gd name="adj2" fmla="val 35090"/>
            </a:avLst>
          </a:prstGeom>
          <a:solidFill>
            <a:srgbClr val="666633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6012000" y="1773360"/>
            <a:ext cx="26654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Alta concentración geográfica y socioeconó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0" descr="pasta base último-2"/>
          <p:cNvPicPr/>
          <p:nvPr/>
        </p:nvPicPr>
        <p:blipFill>
          <a:blip r:embed="rId3"/>
          <a:stretch/>
        </p:blipFill>
        <p:spPr>
          <a:xfrm>
            <a:off x="5076720" y="2843280"/>
            <a:ext cx="4067280" cy="33112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1"/>
          <p:cNvSpPr/>
          <p:nvPr/>
        </p:nvSpPr>
        <p:spPr>
          <a:xfrm>
            <a:off x="1187280" y="561960"/>
            <a:ext cx="765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El consumo de pasta base permanece estable en población general. No se presentan diferencias estadísticamente significativas respecto a la primera medición del año 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1403280" y="3933720"/>
            <a:ext cx="3395880" cy="2374920"/>
          </a:xfrm>
          <a:prstGeom prst="rect">
            <a:avLst/>
          </a:prstGeom>
          <a:solidFill>
            <a:srgbClr val="808000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ffffff"/>
                </a:solidFill>
                <a:latin typeface="Arial Narrow"/>
                <a:ea typeface="SimSun"/>
              </a:rPr>
              <a:t>El consumo de pasta base en la región(*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ffffff"/>
                </a:solidFill>
                <a:latin typeface="Arial Narrow"/>
                <a:ea typeface="SimSun"/>
              </a:rPr>
              <a:t>La prevalencia de vida del consumo de pasta base en las Américas –población general- oscila entre el 0,14% y el 3,10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ffffff"/>
                </a:solidFill>
                <a:latin typeface="Arial Narrow"/>
                <a:ea typeface="SimSun"/>
              </a:rPr>
              <a:t>Uruguay presenta valores inferiores a Chile y similares a Colombia, Perú y Ecuado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ffffff"/>
                </a:solidFill>
                <a:latin typeface="Arial Narrow"/>
                <a:ea typeface="SimSun"/>
              </a:rPr>
              <a:t>(*) Fuente: Informe del Uso de Drogas en las Américas., 2011, OEA - CIC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1619280" y="6516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PASTA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5292720" y="2133720"/>
            <a:ext cx="719280" cy="358560"/>
          </a:xfrm>
          <a:prstGeom prst="rightArrow">
            <a:avLst>
              <a:gd name="adj1" fmla="val 50000"/>
              <a:gd name="adj2" fmla="val 5015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1908000" y="692280"/>
            <a:ext cx="57628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Perfil del consumi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2,0% hombres versus 0,4 muje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Mayoritariamente menores de 30 añ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18,9 años edad de inicio prome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Policonsumidor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0"/>
          <p:cNvSpPr/>
          <p:nvPr/>
        </p:nvSpPr>
        <p:spPr>
          <a:xfrm>
            <a:off x="6372360" y="1557360"/>
            <a:ext cx="79200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6633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1619280" y="2492280"/>
            <a:ext cx="7273800" cy="580680"/>
          </a:xfrm>
          <a:prstGeom prst="rect">
            <a:avLst/>
          </a:prstGeom>
          <a:noFill/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000000"/>
                </a:solidFill>
                <a:latin typeface="Arial"/>
              </a:rPr>
              <a:t>LA MITAD DE LOS CONSUMIDORES DE LOS ÚLTIMOS 12 MESES PRESENTA USO PROBLEMÁTIC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012000" y="3933720"/>
          <a:ext cx="2412720" cy="2438640"/>
        </p:xfrm>
        <a:graphic>
          <a:graphicData uri="http://schemas.openxmlformats.org/drawingml/2006/table">
            <a:tbl>
              <a:tblPr/>
              <a:tblGrid>
                <a:gridCol w="1693800"/>
                <a:gridCol w="71892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caí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coh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hu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ras drog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Text Box 114"/>
          <p:cNvSpPr/>
          <p:nvPr/>
        </p:nvSpPr>
        <p:spPr>
          <a:xfrm>
            <a:off x="5506920" y="3314880"/>
            <a:ext cx="331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Censo nacional de usuarios de drogas en tratamiento – OUD-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9"/>
          <p:cNvSpPr/>
          <p:nvPr/>
        </p:nvSpPr>
        <p:spPr>
          <a:xfrm>
            <a:off x="1619280" y="4105440"/>
            <a:ext cx="3095640" cy="148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Un 19,3% de los que probaron pasta base alguna vez en la vida tiene actualmente un patrón de consumo frecuent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Otro 68,4% no ha consumido en el último año. </a:t>
            </a: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5"/>
          <p:cNvSpPr/>
          <p:nvPr/>
        </p:nvSpPr>
        <p:spPr>
          <a:xfrm>
            <a:off x="1619280" y="27288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OTRAS DRO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843280" y="1982880"/>
          <a:ext cx="3816360" cy="3962160"/>
        </p:xfrm>
        <a:graphic>
          <a:graphicData uri="http://schemas.openxmlformats.org/drawingml/2006/table">
            <a:tbl>
              <a:tblPr/>
              <a:tblGrid>
                <a:gridCol w="2004840"/>
                <a:gridCol w="1811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valencia v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sh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ucinógne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hala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ta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fetami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etam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roí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rfina (sp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nfetami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161" name="Text Box 142"/>
          <p:cNvSpPr/>
          <p:nvPr/>
        </p:nvSpPr>
        <p:spPr>
          <a:xfrm>
            <a:off x="1619280" y="10526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Consumo experimental de otras sustancias, fundamentalmente en usuarios policonsumido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1619280" y="27288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ffffff"/>
                </a:solidFill>
                <a:latin typeface="Arial Narrow"/>
              </a:rPr>
              <a:t>Drogas en el terri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9" descr="extasis último ahora si"/>
          <p:cNvPicPr/>
          <p:nvPr/>
        </p:nvPicPr>
        <p:blipFill>
          <a:blip r:embed="rId1"/>
          <a:stretch/>
        </p:blipFill>
        <p:spPr>
          <a:xfrm>
            <a:off x="4896000" y="1989000"/>
            <a:ext cx="4248000" cy="31165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0"/>
          <p:cNvSpPr/>
          <p:nvPr/>
        </p:nvSpPr>
        <p:spPr>
          <a:xfrm>
            <a:off x="1619280" y="981000"/>
            <a:ext cx="66247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Al igual que la PBC, el consumo de éxtasis presenta una importante segmentación territorial y socioeconómica, en este caso presentando mayores tasas de consumo en los segmentos mas alto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1" descr="pasta base último-2"/>
          <p:cNvPicPr/>
          <p:nvPr/>
        </p:nvPicPr>
        <p:blipFill>
          <a:blip r:embed="rId2"/>
          <a:stretch/>
        </p:blipFill>
        <p:spPr>
          <a:xfrm>
            <a:off x="1297080" y="1989000"/>
            <a:ext cx="40669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1763640" y="115920"/>
            <a:ext cx="5256360" cy="79848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Definición de principales indicador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1258920" y="1484280"/>
            <a:ext cx="774072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PREVALENCIA DE VIDA</a:t>
            </a:r>
            <a:r>
              <a:rPr b="0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:</a:t>
            </a:r>
            <a:r>
              <a:rPr b="0" lang="es-UY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¿Has consumido alguna vez en la vida  x sustanci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PREVALENCIA ÚLTIMOS 12 MESES</a:t>
            </a:r>
            <a:r>
              <a:rPr b="0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:</a:t>
            </a:r>
            <a:r>
              <a:rPr b="0" lang="es-UY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¿Has consumido en los últimos 12 meses x sustancia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PREVALENCIA ÚLTIMOS 30 DÍAS</a:t>
            </a:r>
            <a:r>
              <a:rPr b="0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:</a:t>
            </a:r>
            <a:r>
              <a:rPr b="0" lang="es-UY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¿ Has consumido en los últimos 30 días x sustanci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CONSUMO PROBLEMÁTICO:</a:t>
            </a:r>
            <a:r>
              <a:rPr b="0" lang="es-UY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erie de Indicadores resumidos en un INDICE que mide los síntomas de dependencia (física o psicológica) o uso abusivo de la  persona a la sustancia indagada (CIE-10) para drogas ilegales, AUDIT para Alcohol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ABUSO POR INGESTA (PARA ALCOHOL)</a:t>
            </a:r>
            <a:r>
              <a:rPr b="0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:</a:t>
            </a:r>
            <a:r>
              <a:rPr b="0" lang="es-UY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onsumo en una sola ingesta superior a 4 tragos (equivalente a 80 o mas gramos de alcohol puro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1619280" y="27288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 Narrow"/>
              </a:rPr>
              <a:t>SINTESIS: Consumo alguna vez en la v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2"/>
          <p:cNvSpPr/>
          <p:nvPr/>
        </p:nvSpPr>
        <p:spPr>
          <a:xfrm>
            <a:off x="1476360" y="1123920"/>
            <a:ext cx="7201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El 95,7% probó alguna vez en la vida alguna droga (legal y/o ileg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3"/>
          <p:cNvSpPr/>
          <p:nvPr/>
        </p:nvSpPr>
        <p:spPr>
          <a:xfrm>
            <a:off x="1619280" y="2442600"/>
            <a:ext cx="72007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de cada cuatro personas de la población representada  probó alguna droga ilegal en su vida.  De éstos seis de cada diez (64,2%) son monoconsumido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54"/>
          <p:cNvGraphicFramePr/>
          <p:nvPr/>
        </p:nvGraphicFramePr>
        <p:xfrm>
          <a:off x="1835280" y="3594240"/>
          <a:ext cx="5545080" cy="254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0" name="Object 5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3594240"/>
                    <a:ext cx="554508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457200" y="1600200"/>
          <a:ext cx="4038480" cy="44928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449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Rectangle 5"/>
          <p:cNvSpPr/>
          <p:nvPr/>
        </p:nvSpPr>
        <p:spPr>
          <a:xfrm>
            <a:off x="1619280" y="260280"/>
            <a:ext cx="6192720" cy="69228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Narrow"/>
              </a:rPr>
              <a:t>SINTESIS: Consumo de drogas en los últimos 12 meses (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8"/>
          <p:cNvSpPr/>
          <p:nvPr/>
        </p:nvSpPr>
        <p:spPr>
          <a:xfrm>
            <a:off x="2806560" y="1197000"/>
            <a:ext cx="63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drogas más consumidas en la población de 15 y 64 años son 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cohol y el tabac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guidas de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tranquilizante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rihuan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29"/>
          <p:cNvGraphicFramePr/>
          <p:nvPr/>
        </p:nvGraphicFramePr>
        <p:xfrm>
          <a:off x="1187280" y="2349360"/>
          <a:ext cx="6913800" cy="419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349360"/>
                    <a:ext cx="6913800" cy="41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5"/>
          <p:cNvSpPr/>
          <p:nvPr/>
        </p:nvSpPr>
        <p:spPr>
          <a:xfrm>
            <a:off x="1332000" y="115920"/>
            <a:ext cx="5616360" cy="72072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Narrow"/>
              </a:rPr>
              <a:t>informe completo en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Arial Narrow"/>
              </a:rPr>
              <a:t>www.infodrogas.gub.u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9" descr="tapa_v_encuesta (2)"/>
          <p:cNvPicPr/>
          <p:nvPr/>
        </p:nvPicPr>
        <p:blipFill>
          <a:blip r:embed="rId1"/>
          <a:stretch/>
        </p:blipFill>
        <p:spPr>
          <a:xfrm>
            <a:off x="2340000" y="836640"/>
            <a:ext cx="40543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1979640" y="260280"/>
            <a:ext cx="4897440" cy="47628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ALCOH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22"/>
          <p:cNvGraphicFramePr/>
          <p:nvPr/>
        </p:nvGraphicFramePr>
        <p:xfrm>
          <a:off x="1547640" y="4221000"/>
          <a:ext cx="4608720" cy="241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4221000"/>
                    <a:ext cx="4608720" cy="24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Object 24"/>
          <p:cNvGraphicFramePr/>
          <p:nvPr/>
        </p:nvGraphicFramePr>
        <p:xfrm>
          <a:off x="3635280" y="765000"/>
          <a:ext cx="4824360" cy="2948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0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765000"/>
                    <a:ext cx="482436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25"/>
          <p:cNvSpPr/>
          <p:nvPr/>
        </p:nvSpPr>
        <p:spPr>
          <a:xfrm>
            <a:off x="7164360" y="3933720"/>
            <a:ext cx="19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6"/>
          <p:cNvSpPr/>
          <p:nvPr/>
        </p:nvSpPr>
        <p:spPr>
          <a:xfrm>
            <a:off x="7164360" y="4221000"/>
            <a:ext cx="1763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000000"/>
                </a:solidFill>
                <a:latin typeface="Arial"/>
              </a:rPr>
              <a:t>Se presenta un aumento significativo del consumo de alcohol respecto al 2006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7"/>
          <p:cNvSpPr/>
          <p:nvPr/>
        </p:nvSpPr>
        <p:spPr>
          <a:xfrm>
            <a:off x="1332000" y="1125360"/>
            <a:ext cx="230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Los hombres consumen en mayor medida que las mujeres, excepto en los menores de 18 años donde el consumo se equipara entre los sex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4"/>
          <p:cNvGraphicFramePr/>
          <p:nvPr/>
        </p:nvGraphicFramePr>
        <p:xfrm>
          <a:off x="2197080" y="1028880"/>
          <a:ext cx="6769080" cy="265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7080" y="1028880"/>
                    <a:ext cx="676908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Rectangle 16"/>
          <p:cNvSpPr/>
          <p:nvPr/>
        </p:nvSpPr>
        <p:spPr>
          <a:xfrm>
            <a:off x="1749600" y="237960"/>
            <a:ext cx="4910040" cy="47628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ALCOH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1476360" y="45079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dad promedio de inicio del consumo de alcohol es 16,6 añ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1476360" y="4724280"/>
            <a:ext cx="727236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BLEM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ores probabilidades de uso problemático y dependencia al alcohol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;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ant y Dawson (1997) aseguran que cerca del 40% de los que reportaron haber comenzado a beber antes de los 15 años describieron que en algún momento de sus vida llegaron a tener dependencia al alcohol, lo cual es una cifra cuatro veces superior a la reportada por quienes empezaron a beber a  los 21 año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9"/>
          <p:cNvSpPr/>
          <p:nvPr/>
        </p:nvSpPr>
        <p:spPr>
          <a:xfrm>
            <a:off x="3203640" y="2374920"/>
            <a:ext cx="792000" cy="13669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1187280" y="1268280"/>
            <a:ext cx="151308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La edad promedio  de inicio en estos jóvenes es de 13,82.</a:t>
            </a:r>
            <a:r>
              <a:rPr b="0" lang="es-UY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4"/>
          <p:cNvSpPr/>
          <p:nvPr/>
        </p:nvSpPr>
        <p:spPr>
          <a:xfrm flipH="1" flipV="1">
            <a:off x="2700360" y="2176200"/>
            <a:ext cx="719280" cy="49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8"/>
          <p:cNvSpPr/>
          <p:nvPr/>
        </p:nvSpPr>
        <p:spPr>
          <a:xfrm>
            <a:off x="1835280" y="237960"/>
            <a:ext cx="4537080" cy="47628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ALCOH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1403280" y="4149720"/>
            <a:ext cx="7740720" cy="18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3399ff"/>
                </a:solidFill>
                <a:latin typeface="Arial"/>
              </a:rPr>
              <a:t>Riesgo I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Uso problemático por episodios puntuales de abuso por ingesta sobre el nivel de intoxicac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3399ff"/>
                </a:solidFill>
                <a:latin typeface="Arial"/>
              </a:rPr>
              <a:t>Riesgo II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Uso problemático por ingestas habituales y/o puntuales igual o superior a cinco tragos; no presentando resultado positivo en la escala AUDI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3399ff"/>
                </a:solidFill>
                <a:latin typeface="Arial"/>
              </a:rPr>
              <a:t>Riesgo III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Uso problemático identificado por valores positivos en la escala AUDIT  y donde en la mayoría de los casos además se presentan ingestas puntuales y habituales sobre el nivel de intoxicación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1582560" y="1698480"/>
            <a:ext cx="230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260.000 </a:t>
            </a: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personas entre 15 y 64 años presentan uso problemático de alcoh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16"/>
          <p:cNvGraphicFramePr/>
          <p:nvPr/>
        </p:nvGraphicFramePr>
        <p:xfrm>
          <a:off x="3887640" y="833400"/>
          <a:ext cx="4969080" cy="331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7640" y="833400"/>
                    <a:ext cx="4969080" cy="33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2"/>
          <p:cNvGraphicFramePr/>
          <p:nvPr/>
        </p:nvGraphicFramePr>
        <p:xfrm>
          <a:off x="1187280" y="2133720"/>
          <a:ext cx="6858000" cy="26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133720"/>
                    <a:ext cx="685800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Rectangle 11"/>
          <p:cNvSpPr/>
          <p:nvPr/>
        </p:nvSpPr>
        <p:spPr>
          <a:xfrm>
            <a:off x="984240" y="1268280"/>
            <a:ext cx="6629400" cy="11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Incidencia del alcohol por tipo de accidente (leves, graves y fat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00ff"/>
                </a:solidFill>
                <a:latin typeface="Tahoma"/>
                <a:ea typeface="ＭＳ Ｐゴシック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900000" y="5084640"/>
            <a:ext cx="7489800" cy="4411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  <a:ea typeface="Arial"/>
              </a:rPr>
              <a:t>Se puede señalar que en un 16 % de los siniestros de tránsito se detectó presencia de alcohol en alguno de sus protagonistas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  <a:ea typeface="Arial"/>
              </a:rPr>
              <a:t>Entre los accidentes fatales ocurre un salto en la incidencia del alcohol , llegando a un  porcentaje cercano al 40%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1476360" y="237960"/>
            <a:ext cx="6137280" cy="8874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Narrow"/>
              </a:rPr>
              <a:t>INCIDENCIA DEL ALCOHOL EN LOS SINIESTROS DE TRÁNSITO</a:t>
            </a: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2124000" y="237960"/>
            <a:ext cx="4464000" cy="47628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TABA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9"/>
          <p:cNvGraphicFramePr/>
          <p:nvPr/>
        </p:nvGraphicFramePr>
        <p:xfrm>
          <a:off x="1403280" y="3789360"/>
          <a:ext cx="5184720" cy="222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89360"/>
                    <a:ext cx="518472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3"/>
          <p:cNvGraphicFramePr/>
          <p:nvPr/>
        </p:nvGraphicFramePr>
        <p:xfrm>
          <a:off x="2806560" y="714240"/>
          <a:ext cx="6337440" cy="288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9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06560" y="714240"/>
                    <a:ext cx="6337440" cy="28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Text Box 15"/>
          <p:cNvSpPr/>
          <p:nvPr/>
        </p:nvSpPr>
        <p:spPr>
          <a:xfrm>
            <a:off x="6877080" y="3905280"/>
            <a:ext cx="208764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El descenso en el consumo habitual es estadísticamente significativo, lo que se explica por el descenso del consumo de los hombr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El rango de edad que muestra mayor cesación tabáquica es el de 36 a 45 añ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1403280" y="1197000"/>
            <a:ext cx="187344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3399ff"/>
                </a:solidFill>
                <a:latin typeface="Arial"/>
              </a:rPr>
              <a:t>Incidencia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Casi el 60% son mujer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Rango de edad predominante: 15 a 25 añ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908000" y="237960"/>
            <a:ext cx="5040360" cy="47628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Uso de medicament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1547640" y="1015200"/>
            <a:ext cx="7093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tranquilizantes son la tercera droga mas consumida, con una prevalencia de vida del 16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>
            <a:off x="4179960" y="2462040"/>
            <a:ext cx="617400" cy="343080"/>
          </a:xfrm>
          <a:prstGeom prst="rightArrow">
            <a:avLst>
              <a:gd name="adj1" fmla="val 50000"/>
              <a:gd name="adj2" fmla="val 44990"/>
            </a:avLst>
          </a:prstGeom>
          <a:solidFill>
            <a:srgbClr val="666633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5219640" y="2278080"/>
            <a:ext cx="2282760" cy="9144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e fueron recetados             85,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r su cuenta                       12,4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imero recetados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uego por su cuenta               1,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6372360" y="3357720"/>
            <a:ext cx="388800" cy="457200"/>
          </a:xfrm>
          <a:prstGeom prst="downArrow">
            <a:avLst>
              <a:gd name="adj1" fmla="val 50000"/>
              <a:gd name="adj2" fmla="val 29398"/>
            </a:avLst>
          </a:prstGeom>
          <a:solidFill>
            <a:srgbClr val="666633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1657440" y="1775520"/>
            <a:ext cx="5848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valencia de vida tranquilizantes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Prevalencia de vida tranquiliz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gún prescripción méd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647640" y="766800"/>
            <a:ext cx="91440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660680" y="2093760"/>
          <a:ext cx="1925640" cy="1098720"/>
        </p:xfrm>
        <a:graphic>
          <a:graphicData uri="http://schemas.openxmlformats.org/drawingml/2006/table">
            <a:tbl>
              <a:tblPr/>
              <a:tblGrid>
                <a:gridCol w="1011240"/>
                <a:gridCol w="9144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90" name="Rectangle 61"/>
          <p:cNvSpPr/>
          <p:nvPr/>
        </p:nvSpPr>
        <p:spPr>
          <a:xfrm>
            <a:off x="1766880" y="3252600"/>
            <a:ext cx="1884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Base: Total de la muestr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2"/>
          <p:cNvSpPr/>
          <p:nvPr/>
        </p:nvSpPr>
        <p:spPr>
          <a:xfrm>
            <a:off x="5219640" y="3238200"/>
            <a:ext cx="384192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fesional que indicó los tranquiliz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767560" y="4214880"/>
          <a:ext cx="2743200" cy="1616040"/>
        </p:xfrm>
        <a:graphic>
          <a:graphicData uri="http://schemas.openxmlformats.org/drawingml/2006/table">
            <a:tbl>
              <a:tblPr/>
              <a:tblGrid>
                <a:gridCol w="1833480"/>
                <a:gridCol w="909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edicina Gener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édico psiquiat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Otras especial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93" name="Rectangle 116"/>
          <p:cNvSpPr/>
          <p:nvPr/>
        </p:nvSpPr>
        <p:spPr>
          <a:xfrm>
            <a:off x="5730120" y="5968440"/>
            <a:ext cx="28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Base: consumidores de tranquilizantes bajo prescripció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19"/>
          <p:cNvSpPr/>
          <p:nvPr/>
        </p:nvSpPr>
        <p:spPr>
          <a:xfrm>
            <a:off x="1036800" y="3570120"/>
            <a:ext cx="473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sumo de tranquilizantes (con y sin prescripción médica) según sexo y edad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120"/>
          <p:cNvGraphicFramePr/>
          <p:nvPr/>
        </p:nvGraphicFramePr>
        <p:xfrm>
          <a:off x="1209600" y="4398840"/>
          <a:ext cx="4557960" cy="181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Object 1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9600" y="4398840"/>
                    <a:ext cx="4557960" cy="18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908000" y="237960"/>
            <a:ext cx="5040360" cy="47628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Uso de medicament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647640" y="766800"/>
            <a:ext cx="91440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2"/>
          <p:cNvSpPr/>
          <p:nvPr/>
        </p:nvSpPr>
        <p:spPr>
          <a:xfrm>
            <a:off x="1562040" y="1303920"/>
            <a:ext cx="71154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4,6% de la población declara que ha consumido hipnóticos (con y sin prescripción) alguna</a:t>
            </a:r>
            <a:r>
              <a:rPr b="1" lang="es-ES" sz="1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ez en su vida; en tanto un 6,6% consumió antidepresivos (101.000 personas) y el 0,7% estimulan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67"/>
          <p:cNvSpPr/>
          <p:nvPr/>
        </p:nvSpPr>
        <p:spPr>
          <a:xfrm>
            <a:off x="1908000" y="2772720"/>
            <a:ext cx="555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revalencia de vida (con y sin prescripción médica) según sexo y eda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68"/>
          <p:cNvSpPr/>
          <p:nvPr/>
        </p:nvSpPr>
        <p:spPr>
          <a:xfrm>
            <a:off x="1748880" y="49946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ase: Total de la muestra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692360" y="3141720"/>
          <a:ext cx="6769080" cy="1652400"/>
        </p:xfrm>
        <a:graphic>
          <a:graphicData uri="http://schemas.openxmlformats.org/drawingml/2006/table">
            <a:tbl>
              <a:tblPr/>
              <a:tblGrid>
                <a:gridCol w="1727280"/>
                <a:gridCol w="1441440"/>
                <a:gridCol w="1150920"/>
                <a:gridCol w="1449360"/>
                <a:gridCol w="100008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H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j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≤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5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&gt;35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Hipnót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ntidepresiv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stimula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13:39:31Z</dcterms:created>
  <dc:creator>jessi ramirez</dc:creator>
  <dc:description/>
  <dc:language>en-US</dc:language>
  <cp:lastModifiedBy>Amira</cp:lastModifiedBy>
  <dcterms:modified xsi:type="dcterms:W3CDTF">2014-01-11T13:10:00Z</dcterms:modified>
  <cp:revision>66</cp:revision>
  <dc:subject/>
  <dc:title>V Encuesta Nacional de Consumo  de Drogas en  Hogares    2011</dc:title>
</cp:coreProperties>
</file>